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E61-130C-4827-9028-7E479BBC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981-7B66-4881-BF38-12FCC376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38A-5BAE-4517-8D76-EAD9B14D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BCF-84FF-46BB-998A-CE0C23C4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741-AF67-46A0-BCD1-3A0FB6CA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617-09B5-4A31-9212-701AA8E6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90C-6B31-4A45-A313-1BF681D9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A6D-AB5B-4704-9B25-664CC6ED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FB8-990F-4A46-AADC-EF9B7471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B51-E1E3-4537-BCA3-C4CF32A5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A47E-1E85-490F-9DCA-143E6F54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6F1-7DED-48B7-A465-F75172B3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158F-5A4F-443E-9EEF-15FBBEBCB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elfalt-als-chance.de/" TargetMode="External"/><Relationship Id="rId2" Type="http://schemas.openxmlformats.org/officeDocument/2006/relationships/hyperlink" Target="http://www.vielfalt-als-chance.de/index.php?id=296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Diversity in German Speaking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ultural Assim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37160" y="5410080"/>
            <a:ext cx="18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eph San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 Germa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514600"/>
            <a:ext cx="2600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elfalt-als-chance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ielfalt-als-chance.de/index.php?id=2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henkel.com/SID-3FE70255-FF9BC587/about-henkel/rewards-and-voluntary-declarations-of-intent-33085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ofia.diplo.de/Vertretung/sofia/de/06/Kultureles_20Leben__in__Deutschland/Vielfal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uropa.eu/about-eu/countries/images/germany_map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iversity-charter.com/pics/logo_Charte_suedoise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erman-business-etiquette.com/img/15-german-stereotypes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assimilation is basically the integration of an ethnic group or a group of immigrants into another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489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nt 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it is believed that different ethnicities effect assimilation that is not quit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mmigrant group, whether they are poor or rich, will be clump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thnic group can assimilate into German culture easier if they speak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nt 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elieve that class lines determine whether or not a particular peoples will blend into the German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, it is actually the type of jobs the immigrants receive that will determine whether or not they assimilate or n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family only has a three year permit and receives work at a specialized job they are less likely to assimilate at 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nt Assim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st group of immigrants in Germany is the Turks who make up 1.9 million of the German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urks adapt to the German language by combining their own language wit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6920" y="4343400"/>
            <a:ext cx="3085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er of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rman Diversity Charter was created in December 20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joined the Charter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n more than 1,000 companies have jo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national company Henkel AG and Co. joined the cause of the Diversity Char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er of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rter is designed to promote diversity and eliminate prejudice in the work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charter a person of any race, gender, nationality, ethnicity, religion, disability, or age is appreci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nt workers from around Germany now have stable jobs at workplaces that promote the Char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mil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-469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how many companies have joined the Charter’s ca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the Charter of Diversity do companies have the right to be racist to their employe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largest factor determining whether or not an immigrant group will assimilate to German culture or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297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milation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1,000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Under the Charter companies are less racist and more accep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family can speak German they will have a greater chance to assimilate to German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2:07Z</dcterms:created>
  <dc:creator>SCSadmin</dc:creator>
  <dc:description/>
  <dc:language>en-US</dc:language>
  <cp:lastModifiedBy>SCSadmin</cp:lastModifiedBy>
  <dcterms:modified xsi:type="dcterms:W3CDTF">2011-08-26T12:20:49Z</dcterms:modified>
  <cp:revision>6</cp:revision>
  <dc:subject/>
  <dc:title>Cultural Diversity in German Speaking Countries</dc:title>
</cp:coreProperties>
</file>